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88A-EDF4-4E9F-99A8-FFE75C29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EFB-8629-474D-BEB1-3C9EA9EB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D51-660B-497B-85F1-D8CA19F7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5CF-F213-4DC4-831B-AD4250CD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0D3-258E-45CA-B8DF-1B94A9BF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64A-5316-4343-B733-01C7F9A9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7EE-8E41-44A8-830B-6DE35FEC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C41-F739-4830-BE7D-B6052EB3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41F-800D-4014-98BC-F92FB3D5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432-9764-4A29-A0BB-6BBF2D56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D6D-BBA4-4FB7-BD29-2FC1FE61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461-E193-49F1-977D-9927839D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A7A1-825E-411A-9075-1C005E88F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52280" y="0"/>
            <a:ext cx="9296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Giustizia%20e%20Pace_col" descr=""/>
          <p:cNvPicPr/>
          <p:nvPr/>
        </p:nvPicPr>
        <p:blipFill>
          <a:blip r:embed="rId1"/>
          <a:stretch/>
        </p:blipFill>
        <p:spPr>
          <a:xfrm>
            <a:off x="3048120" y="2004840"/>
            <a:ext cx="2895480" cy="2567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152280" y="0"/>
            <a:ext cx="9296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iustizia%20e%20Pace_col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895840" cy="2567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147080" cy="3247920"/>
          </a:xfrm>
          <a:prstGeom prst="rect">
            <a:avLst/>
          </a:prstGeom>
          <a:ln w="0">
            <a:noFill/>
          </a:ln>
        </p:spPr>
      </p:pic>
      <p:pic>
        <p:nvPicPr>
          <p:cNvPr id="48" name="Giustizia%20e%20Pace_col" descr=""/>
          <p:cNvPicPr/>
          <p:nvPr/>
        </p:nvPicPr>
        <p:blipFill>
          <a:blip r:embed="rId2"/>
          <a:stretch/>
        </p:blipFill>
        <p:spPr>
          <a:xfrm>
            <a:off x="7543800" y="5181480"/>
            <a:ext cx="1447920" cy="1284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iustizia%20e%20Pace_col" descr=""/>
          <p:cNvPicPr/>
          <p:nvPr/>
        </p:nvPicPr>
        <p:blipFill>
          <a:blip r:embed="rId1"/>
          <a:stretch/>
        </p:blipFill>
        <p:spPr>
          <a:xfrm>
            <a:off x="7543800" y="5181480"/>
            <a:ext cx="1447920" cy="128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0400" y="1093680"/>
            <a:ext cx="464832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cc0000"/>
                </a:solidFill>
                <a:latin typeface="Arial"/>
                <a:ea typeface="Times New Roman"/>
              </a:rPr>
              <a:t>È un fenomeno in cresci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ma cresce anche la consapevolezza della necessità di combatte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cc0000"/>
                </a:solidFill>
                <a:latin typeface="Arial"/>
                <a:ea typeface="Times New Roman"/>
              </a:rPr>
              <a:t>Oggi vi sono strumenti di analis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he permettono di predisporre più efficaci mezzi di lot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cc0000"/>
                </a:solidFill>
                <a:latin typeface="Arial"/>
                <a:ea typeface="Times New Roman"/>
              </a:rPr>
              <a:t>Cause di questo mutamen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ono la fine dei blocchi ideologici dopo il 1989 e la globalizzazione delle informazio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2" descr=""/>
          <p:cNvPicPr/>
          <p:nvPr/>
        </p:nvPicPr>
        <p:blipFill>
          <a:blip r:embed="rId2"/>
          <a:stretch/>
        </p:blipFill>
        <p:spPr>
          <a:xfrm>
            <a:off x="-152280" y="1135080"/>
            <a:ext cx="2971800" cy="2065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6583320"/>
            <a:ext cx="624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Courier New"/>
              </a:rPr>
              <a:t>(nota del Pontificio Consiglio della Giustizia e della Pace, 2006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886200"/>
            <a:ext cx="25146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1.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La Conferenza internazionale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 organizzata dal Pontificio Consiglio della Giustizia e della Pace sul tema “La lotta alla corruzione” dal 2 al 3 giugno 2006 in Vaticano con interventi di relatori esperti del fenome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2. Solo da pochi anni si è preso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coscienza del fenomeno a livello internaziona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657600"/>
            <a:ext cx="381240" cy="2362320"/>
          </a:xfrm>
          <a:custGeom>
            <a:avLst/>
            <a:gdLst>
              <a:gd name="textAreaLeft" fmla="*/ 243720 w 381240"/>
              <a:gd name="textAreaRight" fmla="*/ 381600 w 3812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" descr=""/>
          <p:cNvPicPr/>
          <p:nvPr/>
        </p:nvPicPr>
        <p:blipFill>
          <a:blip r:embed="rId1"/>
          <a:stretch/>
        </p:blipFill>
        <p:spPr>
          <a:xfrm>
            <a:off x="5149800" y="1039680"/>
            <a:ext cx="3613320" cy="254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Giustizia%20e%20Pace_col" descr=""/>
          <p:cNvPicPr/>
          <p:nvPr/>
        </p:nvPicPr>
        <p:blipFill>
          <a:blip r:embed="rId2"/>
          <a:stretch/>
        </p:blipFill>
        <p:spPr>
          <a:xfrm>
            <a:off x="7543800" y="5181480"/>
            <a:ext cx="1447920" cy="1284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1001880"/>
            <a:ext cx="464832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  <a:ea typeface="Courier New"/>
              </a:rPr>
              <a:t>La corruzione attraver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tutti i settori socia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  <a:ea typeface="Courier New"/>
              </a:rPr>
              <a:t>È favori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dalla scarsa trasparenza nella finanza internazionale, dalla scarsa collaborazione tra gli Stati, dalla carenza di democrazia in vari Pa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  <a:ea typeface="Courier New"/>
              </a:rPr>
              <a:t>È colleg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al traffico di stupefacenti, al riciclaggio di denaro sporco, al commercio illecito delle armi,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583320"/>
            <a:ext cx="624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Courier New"/>
              </a:rPr>
              <a:t>(nota del Pontificio Consiglio della Giustizia e della Pace, 2006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089680"/>
            <a:ext cx="251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3. La corruzione è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un fenomeno che non conosce limiti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 politici e geografici, i cui costi ricadono sui cittadin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48769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iustizia%20e%20Pace_col" descr=""/>
          <p:cNvPicPr/>
          <p:nvPr/>
        </p:nvPicPr>
        <p:blipFill>
          <a:blip r:embed="rId1"/>
          <a:stretch/>
        </p:blipFill>
        <p:spPr>
          <a:xfrm>
            <a:off x="7543800" y="5181480"/>
            <a:ext cx="1447920" cy="128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3800520"/>
            <a:ext cx="464796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  <a:ea typeface="Courier New"/>
              </a:rPr>
              <a:t>Priva i popo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di un fondamentale bene comune, quello della legalità, una delle chiavi dello svilup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  <a:ea typeface="Courier New"/>
              </a:rPr>
              <a:t>La pratica e la cul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della corruzione vanno sostituite dalla pratica e dalla cultura della leg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4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6933960" cy="2530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280" y="6583320"/>
            <a:ext cx="624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Courier New"/>
              </a:rPr>
              <a:t>(nota del Pontificio Consiglio della Giustizia e della Pace, 2006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809880"/>
            <a:ext cx="251460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4. La corruzione è un grave danno dal punto di vista economico, ma presenta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effetti ancora più negativi sui beni immateriali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, producendo sfiducia nei confronti delle istituzioni, ostacoli alla promozione della persona e alla giustizia sociale (cfr. Compendio della dottrina sociale della Chiesa, n. 411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5. La corruzione è un fatto grave di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deformazione del sistema polit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3657600"/>
            <a:ext cx="381240" cy="2666880"/>
          </a:xfrm>
          <a:custGeom>
            <a:avLst/>
            <a:gdLst>
              <a:gd name="textAreaLeft" fmla="*/ 243720 w 381240"/>
              <a:gd name="textAreaRight" fmla="*/ 381600 w 38124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5" descr=""/>
          <p:cNvPicPr/>
          <p:nvPr/>
        </p:nvPicPr>
        <p:blipFill>
          <a:blip r:embed="rId1"/>
          <a:stretch/>
        </p:blipFill>
        <p:spPr>
          <a:xfrm>
            <a:off x="3200400" y="609480"/>
            <a:ext cx="240984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Giustizia%20e%20Pace_col" descr=""/>
          <p:cNvPicPr/>
          <p:nvPr/>
        </p:nvPicPr>
        <p:blipFill>
          <a:blip r:embed="rId2"/>
          <a:stretch/>
        </p:blipFill>
        <p:spPr>
          <a:xfrm>
            <a:off x="7543800" y="5181480"/>
            <a:ext cx="1447920" cy="1284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791320" y="539640"/>
            <a:ext cx="320040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cc0000"/>
                </a:solidFill>
                <a:latin typeface="Arial"/>
                <a:ea typeface="Courier New"/>
              </a:rPr>
              <a:t>La dignit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ourier New"/>
              </a:rPr>
              <a:t> della persona u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cc0000"/>
                </a:solidFill>
                <a:latin typeface="Arial"/>
                <a:ea typeface="Courier New"/>
              </a:rPr>
              <a:t>Il be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ourier New"/>
              </a:rPr>
              <a:t> comu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cc0000"/>
                </a:solidFill>
                <a:latin typeface="Arial"/>
                <a:ea typeface="Courier New"/>
              </a:rPr>
              <a:t>La solidarietà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cc0000"/>
                </a:solidFill>
                <a:latin typeface="Arial"/>
                <a:ea typeface="Courier New"/>
              </a:rPr>
              <a:t>La sussidiarietà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cc0000"/>
                </a:solidFill>
                <a:latin typeface="Arial"/>
                <a:ea typeface="Courier New"/>
              </a:rPr>
              <a:t>L’opzione preferenzi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ourier New"/>
              </a:rPr>
              <a:t> per i po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cc0000"/>
                </a:solidFill>
                <a:latin typeface="Arial"/>
                <a:ea typeface="Times New Roman"/>
              </a:rPr>
              <a:t>La destinazione univers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ei be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6583320"/>
            <a:ext cx="624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Courier New"/>
              </a:rPr>
              <a:t>(nota del Pontificio Consiglio della Giustizia e della Pace, 2006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193840"/>
            <a:ext cx="2514600" cy="34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6. Per il superamento della corruzione è positivo il passaggio da società autoritarie, chiuse, centralistiche a società democratiche, aperte, partecipate. Non sono tuttavia passaggi automaticamente positivi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7. La Chiesa propone il concetto di “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ecologia uman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” (Centesimus annus, 38) adatto ad orientare la lotta alla corruzione. Di qui l’importanza della educazione e della formazione morale dei cittadin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8. La dottrina sociale della Chiesa, con i suoi principi orientativi fondamentali, con i quali la corruzione è in evidente contrasto, propone indicazioni di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comportamento personale e collettivo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. Tali principi son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981080"/>
            <a:ext cx="381240" cy="4343400"/>
          </a:xfrm>
          <a:custGeom>
            <a:avLst/>
            <a:gdLst>
              <a:gd name="textAreaLeft" fmla="*/ 243720 w 381240"/>
              <a:gd name="textAreaRight" fmla="*/ 381600 w 38124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Giustizia%20e%20Pace_col" descr=""/>
          <p:cNvPicPr/>
          <p:nvPr/>
        </p:nvPicPr>
        <p:blipFill>
          <a:blip r:embed="rId1"/>
          <a:stretch/>
        </p:blipFill>
        <p:spPr>
          <a:xfrm>
            <a:off x="7543800" y="5181480"/>
            <a:ext cx="1447920" cy="1284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6583320"/>
            <a:ext cx="624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Courier New"/>
              </a:rPr>
              <a:t>(nota del Pontificio Consiglio della Giustizia e della Pace, 2006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974880"/>
            <a:ext cx="228600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9. È necessario che aumentino  sia la convinzione, attraverso il consenso prestato ad evidenze morali, sia la consapevolezza che con questa lotta si ottengono importanti vantaggi sociali (Centesimus annus, 25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10. A livello internazionale si deve aumentare la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trasparenza delle transazioni economiche e finanziarie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, anche con una armonizzazione legislativa in questo campo, così come la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collaborazione internazionale tra i governi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. Va incoraggiata la ratifica della Convenzione ONU in mater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11. Vanno aiutati i Paesi poveri, laddove manifestino carenze a livello legislativo e istituzionale, per la lotta alla corruzio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12.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Le Chiese locali sono impegnate nella formazione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Courier New"/>
              </a:rPr>
              <a:t> di una coscienza civile e nell’educazione dei cittadini ad una vera democraz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762120"/>
            <a:ext cx="381240" cy="5410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40760 h 5410080"/>
              <a:gd name="textAreaBottom" fmla="*/ 52693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8" descr=""/>
          <p:cNvPicPr/>
          <p:nvPr/>
        </p:nvPicPr>
        <p:blipFill>
          <a:blip r:embed="rId2"/>
          <a:stretch/>
        </p:blipFill>
        <p:spPr>
          <a:xfrm>
            <a:off x="2666880" y="2743200"/>
            <a:ext cx="629928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Giustizia%20e%20Pace_col" descr=""/>
          <p:cNvPicPr/>
          <p:nvPr/>
        </p:nvPicPr>
        <p:blipFill>
          <a:blip r:embed="rId1"/>
          <a:stretch/>
        </p:blipFill>
        <p:spPr>
          <a:xfrm>
            <a:off x="7543800" y="5181480"/>
            <a:ext cx="1447920" cy="1284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6583320"/>
            <a:ext cx="624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Courier New"/>
              </a:rPr>
              <a:t>(nota del Pontificio Consiglio della Giustizia e della Pace, 2006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6" descr=""/>
          <p:cNvPicPr/>
          <p:nvPr/>
        </p:nvPicPr>
        <p:blipFill>
          <a:blip r:embed="rId2"/>
          <a:stretch/>
        </p:blipFill>
        <p:spPr>
          <a:xfrm>
            <a:off x="1104840" y="1828800"/>
            <a:ext cx="720108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0:05:08Z</dcterms:created>
  <dc:creator>marcre</dc:creator>
  <dc:description/>
  <dc:language>en-US</dc:language>
  <cp:lastModifiedBy>Francesco D'Alfonso</cp:lastModifiedBy>
  <dcterms:modified xsi:type="dcterms:W3CDTF">2008-10-15T15:16:45Z</dcterms:modified>
  <cp:revision>19</cp:revision>
  <dc:subject/>
  <dc:title>Presentazione di PowerPoint</dc:title>
</cp:coreProperties>
</file>